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B10-AE07-4A4B-9976-FE1387EC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3E8-D94A-4F36-B9C5-BE373E4B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128-6E7D-4BC8-9C82-9A2D3D2A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94F-CF0D-4D75-B730-AFFED478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183-4EEC-4EA4-AACC-E6B6270C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17C-E0DD-4E30-847F-311F8D51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269-D021-47DC-B3F5-2DF9B315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479-38FD-420D-9F15-7FEF33D8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AFB-1A2C-44E8-B5B8-5A94E14A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D1E-E09E-47C3-AB64-133B98CA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6BD-CE6B-4537-98A5-67D54E9B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FC6-CEAC-41D1-B688-27A3A6D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36E6-390C-4B13-92D4-9AB0B8F0F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—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you have obtained your user name an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Bar—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to all 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534520" cy="1049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1295280"/>
            <a:ext cx="498312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ol Bar is also called “Visual Editor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45720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2971440"/>
            <a:ext cx="0" cy="16002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495680"/>
            <a:ext cx="1676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5257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990720" y="2895120"/>
            <a:ext cx="2971800" cy="16002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666880" y="2895480"/>
            <a:ext cx="1600200" cy="23623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5562720"/>
            <a:ext cx="39621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Podcasts, Youtube mov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other embeddable web 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181120" y="2895120"/>
            <a:ext cx="1676520" cy="25909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Pictures—The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nsert pictures from your computer or outside sources, click on the insert pictures button on the visual editor toolb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graphic.JPG"/>
          <p:cNvPicPr/>
          <p:nvPr/>
        </p:nvPicPr>
        <p:blipFill>
          <a:blip r:embed="rId1"/>
          <a:stretch/>
        </p:blipFill>
        <p:spPr>
          <a:xfrm>
            <a:off x="3733920" y="3733920"/>
            <a:ext cx="1631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Files—Upload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or load the fi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double click on the image or file when it appears in the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80060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91320" y="3048120"/>
            <a:ext cx="251460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Upload the file (pictu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f., PPT, word, etc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3809880"/>
            <a:ext cx="1905120" cy="9144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880" y="114300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eft “insert link” button on the visual editor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ndow appea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1666800" cy="86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6858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3080" y="4114800"/>
            <a:ext cx="1143000" cy="457200"/>
          </a:xfrm>
          <a:prstGeom prst="leftArrow">
            <a:avLst>
              <a:gd name="adj1" fmla="val 50000"/>
              <a:gd name="adj2" fmla="val 6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Extern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05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7400" y="6172200"/>
            <a:ext cx="2835360" cy="717480"/>
          </a:xfrm>
          <a:prstGeom prst="rect">
            <a:avLst/>
          </a:pr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 Enter the web URL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505320" y="4647960"/>
            <a:ext cx="0" cy="1447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971800"/>
            <a:ext cx="2835360" cy="717480"/>
          </a:xfrm>
          <a:prstGeom prst="rect">
            <a:avLst/>
          </a:pr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. Click on the radio button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5440" y="3200400"/>
            <a:ext cx="5257800" cy="7621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ernal Link – “Wiki Link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page you have created and saved within this 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458200" cy="4498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77120" y="3276720"/>
            <a:ext cx="2133360" cy="761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 Choose your pag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n a dropdown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5080" y="6095880"/>
            <a:ext cx="1773360" cy="7174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. Click radio button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343040" y="3200400"/>
            <a:ext cx="21337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28600" y="2438280"/>
            <a:ext cx="609480" cy="365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424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9880" y="4876920"/>
            <a:ext cx="3429000" cy="17524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Very Useful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95880" y="35053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78760" y="2801880"/>
            <a:ext cx="815760" cy="1103400"/>
          </a:xfrm>
          <a:custGeom>
            <a:avLst/>
            <a:gdLst/>
            <a:ahLst/>
            <a:rect l="l" t="t" r="r" b="b"/>
            <a:pathLst>
              <a:path w="514" h="695">
                <a:moveTo>
                  <a:pt x="327" y="49"/>
                </a:moveTo>
                <a:cubicBezTo>
                  <a:pt x="257" y="0"/>
                  <a:pt x="228" y="28"/>
                  <a:pt x="117" y="33"/>
                </a:cubicBezTo>
                <a:cubicBezTo>
                  <a:pt x="99" y="39"/>
                  <a:pt x="79" y="39"/>
                  <a:pt x="63" y="49"/>
                </a:cubicBezTo>
                <a:cubicBezTo>
                  <a:pt x="42" y="63"/>
                  <a:pt x="30" y="105"/>
                  <a:pt x="16" y="126"/>
                </a:cubicBezTo>
                <a:cubicBezTo>
                  <a:pt x="8" y="150"/>
                  <a:pt x="0" y="170"/>
                  <a:pt x="0" y="197"/>
                </a:cubicBezTo>
                <a:cubicBezTo>
                  <a:pt x="0" y="295"/>
                  <a:pt x="3" y="394"/>
                  <a:pt x="8" y="492"/>
                </a:cubicBezTo>
                <a:cubicBezTo>
                  <a:pt x="10" y="523"/>
                  <a:pt x="34" y="538"/>
                  <a:pt x="55" y="555"/>
                </a:cubicBezTo>
                <a:cubicBezTo>
                  <a:pt x="104" y="597"/>
                  <a:pt x="141" y="614"/>
                  <a:pt x="203" y="632"/>
                </a:cubicBezTo>
                <a:cubicBezTo>
                  <a:pt x="390" y="627"/>
                  <a:pt x="465" y="695"/>
                  <a:pt x="514" y="555"/>
                </a:cubicBezTo>
                <a:cubicBezTo>
                  <a:pt x="511" y="430"/>
                  <a:pt x="513" y="306"/>
                  <a:pt x="506" y="181"/>
                </a:cubicBezTo>
                <a:cubicBezTo>
                  <a:pt x="498" y="26"/>
                  <a:pt x="249" y="33"/>
                  <a:pt x="156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0:27:46Z</dcterms:created>
  <dc:creator>xwu</dc:creator>
  <dc:description/>
  <dc:language>en-US</dc:language>
  <cp:lastModifiedBy>xwu</cp:lastModifiedBy>
  <dcterms:modified xsi:type="dcterms:W3CDTF">2007-07-25T00:35:00Z</dcterms:modified>
  <cp:revision>62</cp:revision>
  <dc:subject/>
  <dc:title>Slide 1</dc:title>
</cp:coreProperties>
</file>